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A5C-E24F-4D3F-9F07-7FE75BA2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90E-1058-4679-9329-E3478875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F9A-BDDE-47BA-AD06-CD75F30E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04D-1500-42AD-BBB1-289F1303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5090-3344-4D66-BFCC-35045D8F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9A31-3AE6-41F8-961A-ECB029B3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5814-A646-4A0D-96C7-CFAAC66B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17A3-A9F8-4394-86E5-FFD0875D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4AF6-1CE2-43D5-83A7-9BAF4086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93EA-8848-434E-A66E-10633CD3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D320-D92B-4D66-8FA1-C2E54109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747-4585-4DDD-8943-4E73556D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4604-4E56-47AC-ADDB-888BB507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D43D-D6F5-4384-99AC-C4C03CCA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195E-5193-46A9-BE54-BD141C91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ABC4-447C-4365-B738-FA4AAE33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BA66-BB29-4CB7-A229-7B135D10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8CB-8C13-4F18-932F-56A1B12D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FC0-336C-49A9-9A8F-9BD42438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297-881C-4CC4-B16C-CDAC9ECA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2F3-C7D8-466E-BA77-D6AB6402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352-5223-4197-ADFD-D39A5A7E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908-FC7A-4938-890E-BBC0ECCB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458-699A-49AD-B31D-8CFB5D55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D7CC-0053-47D5-9C3D-20C44320EB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9078-43DC-408C-BA54-6D33B46381D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7335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Earwig Factory"/>
              </a:rPr>
              <a:t>SENIOR Class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09680" y="5866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pee"/>
              </a:rPr>
              <a:t>Purpose of Advisory Perio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57640" y="0"/>
            <a:ext cx="40863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mienne"/>
              </a:rPr>
              <a:t>Overall Goals of Advisory Perio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ge Plann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Testing Strategi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SAT &amp; AIMS Prepar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ncial Plann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ity Service Projec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mote School Spiri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eshmen Transi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ucation on Civic Responsibi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eer Portfoli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162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ue Highway Linocut"/>
              </a:rPr>
              <a:t>What is the purpose of advisory period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vide general academic, financial, college and career information and guida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ch grade level has a specific curriculum designed to meet the needs of that particular group.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Senior Focu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OOTPRINT ON THE WOR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vice Lear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e Drive: inventory &amp; deliv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ior Gi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instorming, raising mon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toring Sophomor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4120" y="3881520"/>
            <a:ext cx="3190680" cy="2681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39880" y="380880"/>
            <a:ext cx="61657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Senior Focu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OOTPRINT ON THE WOR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ge Prepa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e Sea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olarship Applic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e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ge Representati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NA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of 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P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52480" y="4946760"/>
            <a:ext cx="2743200" cy="1911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495680" y="3306600"/>
            <a:ext cx="3276720" cy="2283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705720" y="1776240"/>
            <a:ext cx="2438280" cy="2389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648320" y="5181480"/>
            <a:ext cx="42670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Jokerman"/>
              </a:rPr>
              <a:t>Senior Focu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Jokerman"/>
              </a:rPr>
              <a:t>FOOTPRINT ON THE WORL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86200" y="22096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vic Responsibil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ter Regist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Spiri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or Decorating Cont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 N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er thank-you no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036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21:15:10Z</dcterms:created>
  <dc:creator>Tech</dc:creator>
  <dc:description/>
  <dc:language>en-US</dc:language>
  <cp:lastModifiedBy>Tech</cp:lastModifiedBy>
  <dcterms:modified xsi:type="dcterms:W3CDTF">2010-06-03T15:46:52Z</dcterms:modified>
  <cp:revision>16</cp:revision>
  <dc:subject/>
  <dc:title>Sophomore Class </dc:title>
</cp:coreProperties>
</file>